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26.png" ContentType="image/png"/>
  <Override PartName="/ppt/media/image3.gif" ContentType="image/gif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2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13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02AC-02FC-4A46-9D57-A899137E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BD42-A7AC-4580-B35B-834625F4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DA19-4271-4F08-94A8-13F25BE4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4C02-FAB4-4FEF-ACB3-AD616E52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3F79-834B-4B57-AE7C-3F2BA71F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5E84-BBA7-4339-AE59-5153037F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9F84-388A-4406-AEC7-273C808A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687A-4E09-48BB-B4CF-7AAC4882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0474-47F0-4B15-9FA2-B13F2AAD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F330-0B75-4126-AA61-86D9272A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DFC1-5C20-461C-9384-E80D5FF3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2893-235F-49DE-8906-28892847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4FB8-AF27-4A1E-9188-6764C72D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0173-BBCF-496D-B18C-AACE4A5C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6AD4-9C22-4B8A-BDE2-D0EBE313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F10F-0CA3-48EA-865D-3F4C4E9E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6AD3-79D6-448E-A9C6-9D9A15FA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535B1-CE9C-446A-BDB3-F7D6AADF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9ED7E-4CCB-4023-86A8-D03D7C40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9893C-A3D9-46E7-AB63-3C204119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482D7-0824-42DE-B8FE-EAA4EBFC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272C7-3D40-41CC-9E09-1998D715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4158-9321-4CB2-9B24-7D6FCEB8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0B8FC-BAF1-4D1B-BF7E-FDFE32F9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ED36A-6815-48BD-986F-4A702288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D0D3D-C0DF-4F65-9CFC-D36A1FCC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48BB7-3400-458E-A642-6744DCCF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9A475-93DC-4277-BCED-23FB8FA3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FF384-BA30-47A4-BA92-E83DBC0A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38058-2D96-4C02-B0B8-72E95F8A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0C0E-A8C5-4722-8B09-5DC0A8BC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3138-4258-4834-B50C-10D055D6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3744-98EA-449B-A459-69E430B5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23CE-39D4-4AE8-918D-B246E7EE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043B-4538-4A00-9A0E-17739CAC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5219-677C-4D3B-9852-B0CA6ABF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BEA9-6A66-45FC-94E7-BFD769201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DCAC-16D8-4E6A-9873-613EC991C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CC95-E56B-4A28-9F78-C3F80F51C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eb2.uvcs.uvic.ca/elc/studyzone/330/grammar/pres1.htm" TargetMode="External"/><Relationship Id="rId2" Type="http://schemas.openxmlformats.org/officeDocument/2006/relationships/hyperlink" Target="http://ww2.college-em.qc.ca/prof/epritchard/trivps1.htm" TargetMode="Externa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2.college-em.qc.ca/prof/epritchard/mcsimp1a.htm" TargetMode="External"/><Relationship Id="rId2" Type="http://schemas.openxmlformats.org/officeDocument/2006/relationships/hyperlink" Target="http://ww2.college-em.qc.ca/prof/epritchard/199pcquz.htm" TargetMode="External"/><Relationship Id="rId3" Type="http://schemas.openxmlformats.org/officeDocument/2006/relationships/hyperlink" Target="http://ww2.college-em.qc.ca/prof/epritchard/billan2.htm" TargetMode="External"/><Relationship Id="rId4" Type="http://schemas.openxmlformats.org/officeDocument/2006/relationships/hyperlink" Target="http://ww2.college-em.qc.ca/prof/epritchard/trivpsqu.htm" TargetMode="External"/><Relationship Id="rId5" Type="http://schemas.openxmlformats.org/officeDocument/2006/relationships/hyperlink" Target="http://web2.uvcs.uvic.ca/elc/studyzone/330/grammar/presnq1.htm" TargetMode="External"/><Relationship Id="rId6" Type="http://schemas.openxmlformats.org/officeDocument/2006/relationships/hyperlink" Target="http://web2.uvcs.uvic.ca/elc/studyzone/330/grammar/presnq2.htm" TargetMode="External"/><Relationship Id="rId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imple Present Ten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ation by Kristi Rey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733920" y="4572000"/>
            <a:ext cx="171432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x / repair plumbing, applian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105520" y="220968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l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30099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ard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34671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uar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124080" y="251460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anage / supervi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29000" y="2819520"/>
            <a:ext cx="278136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76720" y="2895480"/>
            <a:ext cx="30099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se a computer / progra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76720" y="2666880"/>
            <a:ext cx="26287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nswer telephone, type, file, take messag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429000" y="259092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l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76720" y="2314440"/>
            <a:ext cx="327636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rve, help custome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971800" y="25146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mple Present Tense:  Us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eryday activities:  What do you do every d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utines, ha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 tru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ea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971800" y="2438280"/>
            <a:ext cx="34671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search, do experimen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352680" y="2819520"/>
            <a:ext cx="26290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sh dish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29908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ean, wax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37717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el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339084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Pers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/ She /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ular subject (my friend, the boss, a co-work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b + 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s, works, talks, does, spea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pelling rules: Third person verbs in simple present ten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90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ach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Person Spelling Ru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1: verbs ending in –ch, -sh, -ss, and –x 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Person Spelling Ru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le 2:  final consonant + y -&gt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- y + 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Person Spelling Ru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950"/>
              </a:spcBef>
              <a:buClr>
                <a:srgbClr val="336666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038480" y="5562720"/>
            <a:ext cx="1752840" cy="914400"/>
          </a:xfrm>
          <a:custGeom>
            <a:avLst/>
            <a:gdLst>
              <a:gd name="textAreaLeft" fmla="*/ 59040 w 1752840"/>
              <a:gd name="textAreaRight" fmla="*/ 1693800 w 17528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1398" h="21600">
                <a:moveTo>
                  <a:pt x="0" y="0"/>
                </a:moveTo>
                <a:lnTo>
                  <a:pt x="41398" y="0"/>
                </a:lnTo>
                <a:lnTo>
                  <a:pt x="41398" y="21600"/>
                </a:lnTo>
                <a:lnTo>
                  <a:pt x="0" y="21600"/>
                </a:lnTo>
                <a:close/>
              </a:path>
              <a:path fill="lightenLess" w="41398" h="21600">
                <a:moveTo>
                  <a:pt x="0" y="0"/>
                </a:moveTo>
                <a:lnTo>
                  <a:pt x="41398" y="0"/>
                </a:lnTo>
                <a:lnTo>
                  <a:pt x="39998" y="1400"/>
                </a:lnTo>
                <a:lnTo>
                  <a:pt x="1400" y="1400"/>
                </a:lnTo>
                <a:close/>
              </a:path>
              <a:path fill="darken" w="41398" h="21600">
                <a:moveTo>
                  <a:pt x="41398" y="0"/>
                </a:moveTo>
                <a:lnTo>
                  <a:pt x="41398" y="21600"/>
                </a:lnTo>
                <a:lnTo>
                  <a:pt x="39998" y="20200"/>
                </a:lnTo>
                <a:lnTo>
                  <a:pt x="39998" y="1400"/>
                </a:lnTo>
                <a:close/>
              </a:path>
              <a:path fill="darkenLess" w="41398" h="21600">
                <a:moveTo>
                  <a:pt x="41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98" y="20200"/>
                </a:lnTo>
                <a:close/>
              </a:path>
              <a:path fill="lighten" w="41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98" h="21600">
                <a:moveTo>
                  <a:pt x="13692" y="10800"/>
                </a:moveTo>
                <a:lnTo>
                  <a:pt x="27705" y="3794"/>
                </a:lnTo>
                <a:lnTo>
                  <a:pt x="27705" y="17806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1532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What do these people do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733920" y="1295280"/>
            <a:ext cx="1600200" cy="1171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286000" y="5410080"/>
            <a:ext cx="4724280" cy="126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09480" y="3657600"/>
            <a:ext cx="79250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nline Practi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Practice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Practice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about you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k and answer these questions with a classma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time do you get up in the morning? 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I get up at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time do you go to bed?  How many hours do you sleep per nigh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you eat breakfast?  What do you usually ha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28600" y="308628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228600" y="41148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28600" y="5105520"/>
            <a:ext cx="13716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about you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do you like to do in your free tim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you exercise?  What exercises do you do or what sports do you pl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267080" y="518148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800600" y="28195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228600" y="190512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6400800" y="289548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3048120" y="281952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about you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chores do you do in your househol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do you do at your job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867280" y="316224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28600" y="312408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2362320" y="3200400"/>
            <a:ext cx="1676160" cy="12574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4114800" y="3191040"/>
            <a:ext cx="16383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6201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Find and correct the mistakes: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’m work for a very good company, and I also student at MiraCosta Colle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manager talkes with all employees once a wee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manager and I has a meeting toda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company’s profits looks go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technician fixxes any computer problems we ha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verybody working hard every day, and company morale is hig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people in this company really likes working he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egatives in Simple Present Ten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 these to negativ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ike my job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have benef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have a nice bo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egatives in Simple Present Ten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 these to negativ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 has a lot of expe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drives to his 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ew employee comes ear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y co-worker talks to 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egatives in simple present ten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-56016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/ you / we / the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1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ural subject (the workers, the people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1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do not (don’t) + ver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/ she /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1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ular sub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1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does not (doesn’t) + verb (no –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estions in Simple Present Ten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 these statements to ques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ike my job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have benef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have a nice bo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estions in Simple Present Ten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 these statements to ques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 has a lot of expe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drives to his 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ew employee comes ear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r co-worker talks to yo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ak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895480" y="283356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estions in Simple Present Ten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I / you / we / they + verb +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e / she / it + verb +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artner Practi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85264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nline Practi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Quiz:  Questions and nega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All + Triv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Type the negatives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Simple Present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Type the negatives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Type yes/no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319392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ime to write a paragrap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instructor will show you a picture.  Write a paragraph of 6 – 10 sentences describing the actions of the people in the picture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simple present tense verbs (affirmative and negativ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 topic sentence and conclus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13716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848720" cy="3106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77240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ut / style hai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752480" y="243828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76720" y="2895480"/>
            <a:ext cx="28191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liv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352680" y="245736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raw / desig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819520" y="246708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riv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200400" y="261000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2T14:26:10Z</dcterms:created>
  <dc:creator>Kristi Reyes</dc:creator>
  <dc:description/>
  <dc:language>en-US</dc:language>
  <cp:lastModifiedBy>Master_Image</cp:lastModifiedBy>
  <dcterms:modified xsi:type="dcterms:W3CDTF">2006-08-21T21:57:53Z</dcterms:modified>
  <cp:revision>4</cp:revision>
  <dc:subject/>
  <dc:title>Simple Present Tense</dc:title>
</cp:coreProperties>
</file>